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gif" ContentType="image/gif"/>
  <Override PartName="/ppt/media/image10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B664-9CF8-45F7-A308-89C77CE7F106}" type="slidenum">
              <a:rPr b="0" lang="sr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FAD1-800B-44FC-8610-7E236819BB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441F2-3FA9-4683-89C0-DA66F8F8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1949-6AEE-4886-B8FA-C24B6948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B7B1-70F6-43C6-96F2-EE4E8380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AC648-5869-48CD-BB15-509FA8E8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EA9F-B302-4337-BC8D-CDC361C9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761D-61A3-4198-9C44-CAAC7213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F127-343C-4A6A-AD3D-111BE1BF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0080-BFB2-4D23-87E6-C1E5D71C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8F79-9BB0-4714-8808-CB49A2AD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BEFF-4651-42C4-9813-B39134C7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E441-E8C7-4D05-BF32-CEBBD602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8A05-0E6D-452A-B752-BE95474B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A5D6-CF30-41C0-AE13-3C219F23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12D0-DCC8-42C7-8035-34289410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DF27-514D-472B-AC6C-A7948991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0E39-72E0-4916-B9A0-C2028747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2AFE-62B0-44F9-9232-7CB184F2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81F7-614F-4DE5-9401-9B5C8C5D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572F-4599-49FF-B1B6-3B95D275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C1CF2-ED23-4E45-A44E-4E87B9AB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C933E-4FE9-4300-B80C-85FF6C0F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4A55-16BE-4EDD-8CB0-79408829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1495-7C0A-4DBB-BFB6-63BC4BA5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FE857-72C6-4EF1-AFF3-99888036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7960" y="694692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8172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BB48-E9A2-4C3C-B125-CBD31B84BC2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3" name="Group 5"/>
            <p:cNvGrpSpPr/>
            <p:nvPr/>
          </p:nvGrpSpPr>
          <p:grpSpPr>
            <a:xfrm>
              <a:off x="3047760" y="3933000"/>
              <a:ext cx="7102800" cy="3676680"/>
              <a:chOff x="3047760" y="3933000"/>
              <a:chExt cx="7102800" cy="367668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47760" y="4662720"/>
                <a:ext cx="508248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353000" y="4710240"/>
                <a:ext cx="221904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113800" y="5902560"/>
                <a:ext cx="502236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45960" y="3933000"/>
                <a:ext cx="530460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936200" y="4091760"/>
                <a:ext cx="219996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71840" y="6941880"/>
            <a:ext cx="3216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51" name="Group 3"/>
            <p:cNvGrpSpPr/>
            <p:nvPr/>
          </p:nvGrpSpPr>
          <p:grpSpPr>
            <a:xfrm>
              <a:off x="3047760" y="3933000"/>
              <a:ext cx="7106400" cy="3676680"/>
              <a:chOff x="3047760" y="3933000"/>
              <a:chExt cx="7106400" cy="367668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47760" y="4662720"/>
                <a:ext cx="508500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355160" y="4710240"/>
                <a:ext cx="222012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114880" y="5902560"/>
                <a:ext cx="502488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46680" y="3933000"/>
                <a:ext cx="530748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938720" y="4091760"/>
                <a:ext cx="220104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71840" y="694692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81720" y="695016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D645-63E3-40EB-AC71-E4B649F5A11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16668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951200" y="488520"/>
            <a:ext cx="8208720" cy="16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ФАКУЛТЕТ МЕДИЦИНСК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Х НАУК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УНИВЕРЗИТЕТА У КРАГУЈЕВЦ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ИАС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293760" y="369720"/>
            <a:ext cx="1071360" cy="17226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205720" y="2666880"/>
            <a:ext cx="58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УГЉЕНИ ХИДРАТ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49400" y="-1608120"/>
            <a:ext cx="49147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88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псорпција угљених хидра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а апсорпцију глукозе у цревима утиче опште стање организм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фекције, интоксикације, неухрањен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достатак витамина (тиамина,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антотенске кис., и пиридоксин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ања са повећаним мотилитетом цр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дијареј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Судбина апсорбованих угљених хидра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е него што доспеју у системску циркулацију апсорбовани моносахариди путем порталног крвотока пролазе кроз јет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 проласка кроз јетру угљени хидрати улазе у системску циркулацију којом доспевају до екстрахепатичних ткива, где се корис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Механизми хепатоцита који смањују концентрацију угљених хидрата у крви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7960" y="2023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вођење фруктозе и галактозе у глуко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грађивање глукозе у гликоген (гликогене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ксидација глукозе уз ослобађање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ришћење глукозе за синтезу  масних киселина и неких аминокис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Механизми који доводе до ослобађања глукозе из јетре у крв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3668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тварање глукозе из других хексо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лобађање глукозе из гликогена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гликогенолиза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а глукозе из других једињења (глуконеогене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Утицај хормона на метаболизам угљених хидра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6680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егулација метаболизма угљених хидрата и одржање сталне концентрације глукозе  постиже се координираним дејством неколико хормон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смањује концентрацију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Антагонисти инсулин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глукагон, кортизол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адреналин и хормон раст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 повећавају концентрацију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Најважнија дејства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1760" y="173844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лакшан транспорт глукозе кроз ћел. мембра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брзана гликоген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тимулација катаболизм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нхибиција 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тимулација складиштења триацилглицерола у масном ткив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нхибиција кет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тимулација синтезе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1778040"/>
            <a:ext cx="100090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а дифундује у ћелије јетре и без присуств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нсулин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активира глукокиназу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поспешује транспорт глукозе у ћел. скелет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ишића, срчаног мишића и масног тк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ма утицаја на мождане ћелије, које с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пустљиве за глукозу и без овог хорм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еритроцити су инсулин независне ћел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65040" y="1809720"/>
            <a:ext cx="97948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злике у дејству инсулина на улазак глукозе у ћелије различитих тк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последица су различитих типов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портних система који постоје у њихов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ембран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о сада је доказано постојање пет различити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портера глукоз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LUT1-GLUT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Дејство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7600" y="17780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Повећање садржаја гликогена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- ↑ активност гликоген синт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брзава гликоли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- ↑ активност фосфофруктокин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Инхибира глуконеогене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- ↓ активност и количину ензима овог проц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84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 – механизам дејств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1666800"/>
            <a:ext cx="108666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сулински  рецепто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трамер (2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и 2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) субјединиц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убјединица се протеже кроз мембра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унутрашњост ћелије и у свом интрацелуларн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лу садржи домен који  има активност тирозин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ин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езивање инсулина за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субјединицу активира рецепторску тирозин киназу која доводи до аутофосфорилације и синтезе других гласн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9600" y="5950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ГЉЕНИ ХИДРАТИ</a:t>
            </a:r>
            <a:br>
              <a:rPr sz="4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Варење и апсорпција угљених хидрат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Утицај хормона на метаболиза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угљених хидрат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Мелитуриј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оз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Нетолеранција лактоз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Slide2"/>
          <p:cNvPicPr/>
          <p:nvPr/>
        </p:nvPicPr>
        <p:blipFill>
          <a:blip r:embed="rId1"/>
          <a:stretch/>
        </p:blipFill>
        <p:spPr>
          <a:xfrm>
            <a:off x="650880" y="833400"/>
            <a:ext cx="9048600" cy="67867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2450880" y="166680"/>
            <a:ext cx="50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ски  рецептор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22-12"/>
          <p:cNvPicPr/>
          <p:nvPr/>
        </p:nvPicPr>
        <p:blipFill>
          <a:blip r:embed="rId1"/>
          <a:stretch/>
        </p:blipFill>
        <p:spPr>
          <a:xfrm>
            <a:off x="4614840" y="3979800"/>
            <a:ext cx="5545080" cy="3470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88240" y="254160"/>
            <a:ext cx="21970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4160" y="592200"/>
            <a:ext cx="1015992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Везивањем инсулина за 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  <a:ea typeface="Arial"/>
              </a:rPr>
              <a:t>тирозин киназне рецепторе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 → аутофосфорилације-активације рецептор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Активн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К каскадом сигналне трансдукције 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фосфорилише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нтрацелуларне протеине (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ФОСФАТАЗЕ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) и  актив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ир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ензим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гликолизе, гликогенезе, липогенезе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т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ранспорт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г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лукозе из крви у јетру, мишиће и масно ткиво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338040" y="3809880"/>
            <a:ext cx="2617920" cy="3487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540160" y="4184640"/>
            <a:ext cx="1608120" cy="831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aramond"/>
              </a:rPr>
              <a:t>mesta vezivanja insulin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2624040" y="5925960"/>
            <a:ext cx="1609920" cy="131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aramond"/>
              </a:rPr>
              <a:t>Unutrašnji delovi receptora- </a:t>
            </a:r>
            <a:r>
              <a:rPr b="1" lang="sr-Latn-CS" sz="1600" spc="-1" strike="noStrike">
                <a:solidFill>
                  <a:srgbClr val="000000"/>
                </a:solidFill>
                <a:latin typeface="Garamond"/>
              </a:rPr>
              <a:t>enzim tirozin kina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 – регулација секрец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1760" y="18813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јважнији фактор који контролише лучење инсулина је сама концентрација глукозе у крв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концентрација глукозе стимулише луче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↓ концентрација глукозе инхибира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екрецију овог хорм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инсулина - Глукаго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95264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а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ћелијама Лангерхансових острвац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анкреа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стварује снажан ефекат 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↑ конц.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стимулација гликогенолизе и глуконеогенез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јизраженији ефекат је убрзање гликогенолизе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Глукаго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66680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ктивира аденилат циклаз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доводи до стварања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AMP-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тивира гликоген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фосфорилаз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брзава разградњу гликоге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се ослобађа и из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хепатоцита дифундује у крвото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794200" y="237960"/>
            <a:ext cx="4365720" cy="738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668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Глукаго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3668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↓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. глукозе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имулише секрецију глукаг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аго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оводи до мобилизације глукозе из јетре 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итећи организам од хипогликем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. глукозе инхибира лучење глукаг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минокисели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пешују секрецију глукагона чиме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пречава појава хипогликемије посл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ског обр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960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Кортизол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7600" y="11667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у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авни ефекат кортизола је стимулација 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дстиче синтезу кључних енз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брзава мобилизацију протеина из мишић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њихову деградацију до А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имулише ослобађање МК из масног тк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хибира индукцију гликолитичких ензима п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јством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дренал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ормон сржи надбубрежне жлез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новна улога у метаболизму УХ састоји се у обезбеђивању глукозе за потрошњу у периферним ткив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во дејство адренелин показу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у условима изражене хипогликем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физичког или емоционалног стр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дренал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64680" y="1523880"/>
            <a:ext cx="9286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дреналин стимулише гликогенолизу у јетри и мишић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↑ глукозе (из гликогена јетре) и лакта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из мишића) у плаз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дренал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хибира глуконеогенезу и секреци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а појачава секрецију глукаг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ејство остварује посредством cAMP као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 секундарног гласника "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Хормон раста (соматотропни хормон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7960" y="2023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липептидни хормон предњег режња хипофи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тимулише глуконеогене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брзава липоли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нтагониста инсулину у погледу уласка глукозе у ћелије инсулин-зависних тк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960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Arial"/>
                <a:ea typeface="Arial"/>
              </a:rPr>
              <a:t>Угљени хидра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36320" y="1595520"/>
            <a:ext cx="9358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лавни извор ЕНЕРГИЈЕ у организм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ја се ослобађа оксидацијом ових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ињења до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ристе се за синтезу биомолекула ка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о су масне кисели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ставни су део биолошки значајних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ињења (нукл. кисели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carbohydratesExamples"/>
          <p:cNvPicPr/>
          <p:nvPr/>
        </p:nvPicPr>
        <p:blipFill>
          <a:blip r:embed="rId1"/>
          <a:stretch/>
        </p:blipFill>
        <p:spPr>
          <a:xfrm>
            <a:off x="6794640" y="166680"/>
            <a:ext cx="30891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49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7960" y="2023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линички синдром праћен стањем хронично високих концентрација глукозе у крв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хипергликемија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је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основни знак ове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диц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је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апсолутног или релативног </a:t>
            </a:r>
            <a:r>
              <a:rPr b="1" lang="sr-Latn-CS" sz="3200" spc="-1" strike="noStrike">
                <a:solidFill>
                  <a:srgbClr val="00ff00"/>
                </a:solidFill>
                <a:latin typeface="Arial"/>
                <a:ea typeface="Arial"/>
              </a:rPr>
              <a:t>дефицит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7" name="Content Placeholder 3" descr="scooping[1]"/>
          <p:cNvPicPr/>
          <p:nvPr/>
        </p:nvPicPr>
        <p:blipFill>
          <a:blip r:embed="rId1"/>
          <a:stretch/>
        </p:blipFill>
        <p:spPr>
          <a:xfrm>
            <a:off x="793800" y="2666880"/>
            <a:ext cx="3786120" cy="2828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insulin_resistance[1]"/>
          <p:cNvPicPr/>
          <p:nvPr/>
        </p:nvPicPr>
        <p:blipFill>
          <a:blip r:embed="rId2"/>
          <a:stretch/>
        </p:blipFill>
        <p:spPr>
          <a:xfrm>
            <a:off x="4865760" y="2595600"/>
            <a:ext cx="4071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49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796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(WHO)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нише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ао обољење на основу лабораторијских налаз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 крви већи од 7,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mol/L након периода ноћног глад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концентрација глукоз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ећа од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11,1 mmol/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два сата након узимања оброка богатог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Х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након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ралног уноше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960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7600" y="109548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4000"/>
          </a:bodyPr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ви знаци који указују на почетак шећерне болести с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у тежи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ишићна слаб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жеђ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већана екскреција мокраћ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нализом биохемијских парамет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↑ концентрације у крви и ↑ екскреције ур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↑ осмоларност, жеђ и ↑унос течности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↑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кскреције урина, дехидратациј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убитак електроли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ласификација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M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и других поремећаја толеранције глукоз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е клас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Тип I (инсулин-зависни D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Тип II (инсулин-независни D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нутрицијски D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Други типови DM повезани са нек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тањима и синдром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ремећај толеранције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1760" y="20955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Тип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(инсулин зависни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i="1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ледица  недовољног лучењ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сутан код 10% свих пацијена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олелих од дијабет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основи деструкција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ћел. Лангерхансов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трваца панкреа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ечи се инсу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3" descr="resource[1]"/>
          <p:cNvPicPr/>
          <p:nvPr/>
        </p:nvPicPr>
        <p:blipFill>
          <a:blip r:embed="rId1"/>
          <a:stretch/>
        </p:blipFill>
        <p:spPr>
          <a:xfrm>
            <a:off x="5365800" y="237960"/>
            <a:ext cx="3643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07600" y="23814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Тип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(инсулин независни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i="1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елативни недостатак активности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сно резистенција на инсул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сутан код 80-90% дијабетич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ечи се оралним хипогликемицима/и/и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нсу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Picture 3" descr="eating-insulin-pumps[1]"/>
          <p:cNvPicPr/>
          <p:nvPr/>
        </p:nvPicPr>
        <p:blipFill>
          <a:blip r:embed="rId1"/>
          <a:stretch/>
        </p:blipFill>
        <p:spPr>
          <a:xfrm>
            <a:off x="5437080" y="309600"/>
            <a:ext cx="3714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6504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49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49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о лабораторијски налази у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br>
              <a:rPr sz="3600"/>
            </a:b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076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2000"/>
          </a:bodyPr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*гликемија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- налаз значајне хипергликемиј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постпрандијална (након оброка)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глукоза у крв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- хипергликемија преко 11,1 mmol/L два сата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дуже након обро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гликемија након оптерећења глукоз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-  преко 11,1 mmol/L два сата и дуже након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оралног уношења 75g глукозе (глукоз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толеранс тестови)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јутарњи ниво глукозе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– гликемија преко 7,8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mmol/l, након периода ноћног гладова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о лабораторијски налази у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br>
              <a:rPr sz="3600"/>
            </a:b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166680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глукоза у урину (гликозуриј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под нормалним околностима глукоза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не детектује у ур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аксимална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глукозе у крви која није праћена појавом глукозе у мокраћи 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убрежни праг за глукозу, који износи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олико је гликемија изнад ових вредности бубрези су преоптерећени и глукоза се појављује у урин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96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о лабораторијски налази у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br>
              <a:rPr sz="3600"/>
            </a:b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у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хемоглоб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166760"/>
            <a:ext cx="10437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6000"/>
          </a:bodyPr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сутни су у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ритроцитима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, где настају и п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нормалним условима, спонтано, неензимск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овалентним везивањем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b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и глукоз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(HbA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c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њихова к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нцентрација зависи од просеч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е глукозе 2-3 месеца пре мер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важ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у праћењу и контролисању шећер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редности гликохемоглобина се изражавају ка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ценат укупног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b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у крв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– нормално од 5-8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Варење и апсорпција угљених хидра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1760" y="2095560"/>
            <a:ext cx="105094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лисахариди (скроб и гликоген) и дисахариди (сахароза и лактоза) унети хран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хидролизују се у процесу варења д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оносахарид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под дејством ензим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 пљувачке (амила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 панкреасног сока (амилаза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 слузокоже танког црева (дисахаридаз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о лабораторијски налази у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br>
              <a:rPr sz="3600"/>
            </a:b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у - Кетонска тел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07600" y="18813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недостатку инсул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мањено је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искоришћавање глукоз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ће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траћелијски недостатак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иако је у крви има преви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цит глукозе у ћелијама доводи д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достатка оксалацетата неопходног 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тпочињање Кребсовог циклу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88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о лабораторијски налази у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br>
              <a:rPr sz="3600"/>
            </a:b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у - Кетонска тел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јачан је катаболизам масти тј масних ки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гомилавањ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acetil-CoA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не улазе 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ЦА циклус због недостатка оксалацет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з нагомиланог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acetil-CoA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јачано се синтетишу кетонска тел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значајан ↑ њихове  концентрација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 ацетонемија или кетон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 такође се појављују у урину - ацетонур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ли кетонур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6667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о лабораторијски налази у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br>
              <a:rPr sz="3600"/>
            </a:b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у - Кетонска тел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93760" y="223848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етонска тела се нормално не налазе у ур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цетонемија и ацетонур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у лабораторијски знаци поодмакл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ећерне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"/>
                <a:ea typeface="Arial"/>
              </a:rPr>
              <a:t>Екстремно </a:t>
            </a:r>
            <a:r>
              <a:rPr b="0" lang="sr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r>
              <a:rPr b="0" lang="sr-RS" sz="3200" spc="-1" strike="noStrike">
                <a:solidFill>
                  <a:srgbClr val="ff0000"/>
                </a:solidFill>
                <a:latin typeface="Arial"/>
                <a:ea typeface="Arial"/>
              </a:rPr>
              <a:t> кетонских тела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оже бити праћено поремећајем ацидо-баз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внотеже - </a:t>
            </a:r>
            <a:r>
              <a:rPr b="0" lang="sr-RS" sz="3200" spc="-1" strike="noStrike">
                <a:solidFill>
                  <a:srgbClr val="ff0000"/>
                </a:solidFill>
                <a:latin typeface="Arial"/>
                <a:ea typeface="Arial"/>
              </a:rPr>
              <a:t>метаболичка  кетоацидо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Метаболичке последице недостатка дејства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77804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ремећај метаболизма угљених хидра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речавање уласка глукозе у инсулин- завис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ћел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активација глуконеогенезе и гликогеноли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неконтролисаном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abetes mellitus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сивна липолиза ТГЛ-а у масном ткив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варање велике количине кетонских те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убрзан катаболизам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07960" y="17780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естови оптерећења дају слику 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атаболизму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особности организма да контролише конц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тестова оптерећења после конзумира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ати се промена концентрације глукозе у крви у одређеним временским интервал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1760" y="17384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 код здравих и код дијабетичара конц. глукозе брзо расте по конзумирању (30-60ми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д здравих се брзо враћа на првобитне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ед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д дијабетичара веома споро јер се 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тише довољно инсулина па је време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аћања на нормално стање продуже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50840" y="177804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рални глукоза-толеранс тест (ОГТТ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води се ујутру након 10-16 сати глад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а време теста пацијент би требало 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ирује и не пуш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зима се узорак крви за одређивање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таш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аје се 75г глукозе у 250-300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во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рв се узима сваких 30 мин у току 2 сата 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ноше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д здравих особ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нцентрација глукозе мања од 6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mol/L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ава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нцентрација глукозе мања од 7,8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mmol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 дава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нцентрација глукозе већа од 11,0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mmol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 дава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5950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1760" y="209556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глукозе у плаз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међу 7,8 и 11,0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у узорку узет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 2 сата указују на поремећај толеранци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огликемија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Хипогликемија код новорођенчади  и дец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нцентрације глукозе ниже од 1,6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донесене новорођенчад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дносно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&lt;1,11 mmol/L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превремено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ођене  деце сматрају патолошки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0" y="-61920"/>
            <a:ext cx="10159920" cy="76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3400" y="52380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Узроци хипогликемије код новорођенчади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и дец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36680" y="23097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лазна хипоглик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ниска тел.маса на рођењ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превремено рођена дец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RS" sz="3600" spc="-1" strike="noStrike">
                <a:solidFill>
                  <a:srgbClr val="ffffff"/>
                </a:solidFill>
                <a:latin typeface="Arial"/>
                <a:ea typeface="Arial"/>
              </a:rPr>
              <a:t>Diabetes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или токсемија код мајк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Респираторни “дистрес” синдро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6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зроци хипогликемије код новорођенчади</a:t>
            </a:r>
            <a:br>
              <a:rPr sz="3600"/>
            </a:b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и дец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36680" y="20955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Трајна хипоглик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- дефект у стварању глукоз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- гликогеноз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- галактоз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- наследна неподношљивост фруктоз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- ендогени хиперинсулиниза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10287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4000" spc="-1" strike="noStrike">
                <a:solidFill>
                  <a:srgbClr val="ffff00"/>
                </a:solidFill>
                <a:latin typeface="Arial"/>
                <a:ea typeface="Arial"/>
              </a:rPr>
              <a:t>Хипогликемије код новорођенчади</a:t>
            </a:r>
            <a:br>
              <a:rPr sz="4000"/>
            </a:br>
            <a:r>
              <a:rPr b="0" lang="sr-RS" sz="4000" spc="-1" strike="noStrike">
                <a:solidFill>
                  <a:srgbClr val="ffff00"/>
                </a:solidFill>
                <a:latin typeface="Arial"/>
                <a:ea typeface="Arial"/>
              </a:rPr>
              <a:t> и дец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7960" y="2023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деце чији је мозак у развоју, поновљене и пролонгиране епизоде хипогликемије могу довести до трајног оштећења можданог паренхим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адекватна количин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ATPa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неопходног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 одржавање јонских градијената</a:t>
            </a: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лукоза је важан прекурсор у синтез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пида у саставу миј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960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огликемија код одраслих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3668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9000"/>
          </a:bodyPr>
          <a:p>
            <a:pPr marL="338760" indent="-338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тање при коме је концентрација глукозе испод доње граничне вредности за гликемију у стању гладовања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(3.6mmol/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760" indent="-338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кива која за своје енергетске потребе облигатно зависе од глукозе с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760" indent="-33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оза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760" indent="-33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еритроци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760" indent="-33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сти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760" indent="-33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едула бубрег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760" indent="-33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едула надбубрег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760" indent="-338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имптоми хипо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65040" y="138096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6000"/>
          </a:bodyPr>
          <a:p>
            <a:pPr marL="289440" indent="-2894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Arial"/>
                <a:ea typeface="Arial"/>
              </a:rPr>
              <a:t>Разликују се од особе до особе и ниједан није специфичан за само ст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Arial"/>
                <a:ea typeface="Arial"/>
              </a:rPr>
              <a:t>Адреналин је одговоран за класичне симптоме хипогликемиј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RS" sz="3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рхтав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ноје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учн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ахикард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ртоглав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ла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лагодност у стома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400" spc="-1" strike="noStrike">
                <a:solidFill>
                  <a:srgbClr val="ffffcc"/>
                </a:solidFill>
                <a:latin typeface="Arial"/>
                <a:ea typeface="Arial"/>
              </a:rPr>
              <a:t>Ови симптоми срећу се и у хипертиреози, феохромоцитом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400" spc="-1" strike="noStrike">
                <a:solidFill>
                  <a:srgbClr val="ffffcc"/>
                </a:solidFill>
                <a:latin typeface="Arial"/>
                <a:ea typeface="Arial"/>
              </a:rPr>
              <a:t>и код анксиоз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7960" y="5950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Могући узроци смањене концентрације глукозе у крви могу бити: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дуготрајно гладовањ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тешка дисфункција јетр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дозирање инсулином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лекови, алкохол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инсулином - тумор ендокриног панкреас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лучи велику количину инсулина у крв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н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панкреасни тумори који појачано трош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Могући узроци смањене концентрације глукозе у крви могу бити</a:t>
            </a:r>
            <a:r>
              <a:rPr b="0" lang="sr-Latn-CS" sz="54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7960" y="21668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наследни метаболички поремећај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озе, галактоземије, наслед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неподношљивост фруктоз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цит глукокортикоида  (хипофунк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оре надбубрежне жлезд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1760" y="30960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Патофизиолошки механизми хипо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2120" y="17384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Смањено ослобађање глукозе у крв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тешких обољења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хроничног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алкохолиз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наследних мета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болест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бољења жлезда са унутраш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лучењем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(недовољно лучење глукокортикоида 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стране коре надбубрежне жлезде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7600" y="30456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Патофизиолошки механизми хипо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Појачано коришћење глукоз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у случајевима великих тумора које трош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велике количине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смањених депо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липи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поремећене оксидације масних кисели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Смањено отпуштање и појачано коришће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у случају појачаног лучења инсулина усле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тумора панкреаса – инсулином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7600" y="30456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Лабораторијско испитивање хипогликемије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гликемиј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концентрације инсулина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концентрациј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Ц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пептида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Ц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пептид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део инактивног облика инсулина  заједно са инсулином излучуј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у крв у једнаким количина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значајан је показатељ концентрације ово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хормона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Варење и апсорпција угљених хидра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1760" y="15955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Саливарна и панкреасна амилаз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идролизу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1-4 гликозидне вез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кроба и глик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 чему настају :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лукоз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алтоз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зомалто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ливарна амилаза се инактивира у желуцу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иселој среди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идролитичка разградња се наставља дејством панкреасне амил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→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ачни производ смеша глукозе, малтозе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зомалт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оз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7600" y="16668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рупа урођених поремећа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олази до прекомерног нагомилавањ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а у ткивима : јетри, бубрезима, срцу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ишић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 може има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нормалну или патолошку структур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астају због поремећаја активности ензима који учествују у синтези или у разградњи глик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7600" y="304560"/>
            <a:ext cx="93582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озе – тип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I: Von Gierke-ova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болест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7960" y="17780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цит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глукозо-6-фосфат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гомилавање гликогена у јетри и бубрез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езерве гликогена метаболички инерт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ерлипид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цетон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ерурик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холестерола - ксанто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озе – тип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II: Pompeova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болест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цит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изозомалне киселе малта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1.4- глукозидаз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гомилавање гликогена у свим ткив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рце је веома увећан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зражена слабост мишић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7960" y="5950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озе – тип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III: Korijeva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болест</a:t>
            </a:r>
            <a:br>
              <a:rPr sz="3600"/>
            </a:b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 гранична декстрино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1760" y="21668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ци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нзима разграњавањ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"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хидролизуј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-1,6-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идне везе тј. мес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чвања у молекулу глик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 патолошке структу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ји има кратке ланце акумулира се 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мишић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оболелих – стална хипоглик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6680" y="523800"/>
            <a:ext cx="950112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озе – тип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IV: Andersenova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болест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36680" y="20955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ци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“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ензима гранањ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ји катализује стварање рачви тј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1.6.-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гликозидних в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гомилава се производ са мало рачви и дугачким спољним ланцима –амилопект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јвише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епатомегалија, цироз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Фаталан исход до 4. године живо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668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озе – тип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V: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Mc Ardle-ova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болест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36680" y="2023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еактивност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ишићне фосфорил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 у мишићима не користи се као извор глукозе за добијање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рзо замарање и грчеви у мишић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ле физичког нап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олови престају у мировању, када мишићи користе масти као извор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озе – тип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VI: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Hers-ova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болест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едостатак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етрине фосфорил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н садржај гликогена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Нетолеранција лактоз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1760" y="173844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особа са урођеним недостатком активности лактазе после узимања млека јављају с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болови, надувеност абдомен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дијареј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нуриција првих дана по рођењ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тежег облика: лактоза се излучује ур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оштећење јетре и бубрег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повећана екскреција аминокис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Нетолеранција лактоз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1166760"/>
            <a:ext cx="10572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мптоми неподношења лактозе могу се јави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ек у пубертету или касн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тоји и стечени поремећај недостатка лактазе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последица обољења ГИТ-а (запаљ., инфекциј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мпто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последица осмотског ефекта нехидролизова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акт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делом ферментације под дејством црев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актерија при чему се ствара млечна киселина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сне кис. кратког ланца које иритирају црев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216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1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796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ушкарац старости 58 година јавља се лекару због наглог губитка телесне тежине, осећаја опште слабости и малаксалости који траје данима уназад , брзог замарања као и интензивног осећаја  жеђ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није је патио од гојазности, повремено конзумира алкохол, пушач је 30 година уназад, и има седентарни начин живот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јективним прегледом лекар је установио да је пацијент видно дехидриран и да има исушену кож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Варење и апсорпција угљених хидра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1760" y="180972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лобођена глукоза се апсорбу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исахарид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стали хидролизом полисахарида (малтоза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зомалтоза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ао и они унети храном (сахароза и лакт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идролизују до моносахарида дејств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исахаридаза (гликозидаза)*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локализовани у ћел. слузокоже цр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76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1- Лабораторијски налаз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65040" y="21668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а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11,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(3.8-6.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sr-Latn-R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136 mmol/L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(137-14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5,8 mmol/L  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(3.5-5.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моларност 385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Osm/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(285-29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+ глукоза у урину на основу урин тест тра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6320" y="309600"/>
            <a:ext cx="94294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1- 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796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На коју болест најпре посумњамо код лабораторијског налаза хипергликемије и гликозур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2. Који облик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-a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је присутан код нашег пацијента 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3. Које би још лабораторијске параметре могли да затражимо у циљу прецизнијег постављања дијагнозе и увођења терап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4. Како се изводи ОГТТ и како тумачимо добијене резулта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5. Како се лечи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2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7000"/>
          </a:bodyPr>
          <a:p>
            <a:pPr marL="331200" indent="-3312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војка старости 21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одину доводе код лекара због изненадне дрхтавице,лупања срца, презнојавања, мучнине, вртоглавиц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1200" indent="-331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осећаја нелагодности у стомаку. Због бављења манекенством дуже време је на ригорозном дијететском режиму исхране, са смањеним  уносом угљених хидрата, а такође је приликом изласка у град попила и неколико алкохолних пић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1200" indent="-3312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1200" indent="-331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934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2- Лабораторијски налаз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07960" y="2023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а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2.9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(3.8-6.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реа           3.6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(3.0-8.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креатинин  71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mmol/L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(49-10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K               69U/L                                (0-17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KMB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9.0U/L                              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2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SH             2.07uIU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/mL                       (0.38-5.3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FT</a:t>
            </a:r>
            <a:r>
              <a:rPr b="0" lang="sr-Latn-R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                  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10.74pmol/L                      (7.46-21.1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93400" y="23796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2 </a:t>
            </a:r>
            <a:r>
              <a:rPr b="0" i="1" lang="sr-Latn-RS" sz="3600" spc="-1" strike="noStrike">
                <a:solidFill>
                  <a:srgbClr val="00ff00"/>
                </a:solidFill>
                <a:latin typeface="Arial"/>
                <a:ea typeface="Arial"/>
              </a:rPr>
              <a:t>-</a:t>
            </a: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36680" y="13809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су могући узроци хипогликемије к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шег пацијенткињ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. Који су остали узроци хипогликемиј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3. Код којих болести се такође срећу о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мптом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4. Који лабораторијски параметри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јчешће одређују у пракси у испитивањ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ј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5. Који су могући патофизиолошк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еханизми настанка хипогликемиј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Варење и апсорпција угљених хидра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177804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човека постоји најмање седам дисахарида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пет глукозидазе и две галактозид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идазе хидролизују малтозу, сахарозу, изомалтозу и трехало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алактозидазе хидролизују  лакто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д дејством ових ензима дисахариди се у плазма мембрани хидролизују до моносахарида: глукозе, фруктозе и галакт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88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псорпција угљених хидра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93400" y="18813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оносахариди се апсорбују различитим механизмим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активним транспортом (глукоза и галакт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лакшаном дифузијом (фрукт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стом дифузијом (маноза, пентоз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Radica</cp:lastModifiedBy>
  <dcterms:modified xsi:type="dcterms:W3CDTF">2018-09-04T15:40:47Z</dcterms:modified>
  <cp:revision>152</cp:revision>
  <dc:subject/>
  <dc:title>PowerPoint Presentation</dc:title>
</cp:coreProperties>
</file>